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4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3285-0EC5-4276-831A-7724117D4A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1EEE-DAEE-4A7C-831C-9901FBD9C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1901-A6DF-421F-846C-8E2E400128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E2FD-A9C5-4FFD-B4BB-33EC4C1A0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3C3E-E9BC-491A-A084-8992445B57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5BBC-F14A-4CE4-BAEA-9EE5953F48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A519-5B48-4460-B6A8-76DC35DE3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F2F3-5A47-4B2B-BD0A-1431D9E1F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FFF0-F804-4DAC-A3C4-D1A6207F9F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79F7-AC08-46ED-B9B7-D3FF7410D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6CC-3610-4B9E-9463-737B51F9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682-4428-4516-B26D-52BDE407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06F28-FF4C-489F-8589-EB76A0DA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9FF45-1F4F-45C7-B1FF-2C8FC2B8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48987-A499-4EAB-8C24-50DB832B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D2F21-F384-4E6B-A944-457164D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8ED08-0887-4AAE-B31F-4B576548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7E339-7FF8-47F4-9320-DE21C978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100A5-3407-411C-B257-23E2882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E081-3024-439C-8AE0-329243CA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30E27-16E9-4459-B5B7-54295B46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AD841-C54B-43EA-81C3-07AB8866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BC9-6003-4515-93AD-38CA1E2C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0C3EC-0880-4BD1-BC2B-B1BEB84D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BB37D-7619-4F8F-8EE1-1961959C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3555D-048E-4CC9-83DD-550CF356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BF2E2-6B5C-40E1-BA3D-7EE409B0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763C1-F82E-41AE-9E3D-88C85F22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80D81-39CA-4486-998D-094330F4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907C0-8774-49F5-BF56-CCE497F6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DEE6D-800A-44EE-8A7D-CA5CB94C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A83F2-0E46-418F-A2F1-D119824F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79422-5576-4AB9-A4F2-15BD84AF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636-4D74-4256-B70E-0F2F2E72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F5D51-33CC-4F73-8923-201AFCCC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64315-AB16-4545-B269-6D45EAE6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79581-30AB-469F-A6CF-C1B10141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C3009-2A8D-4D26-AC7B-B38C88D3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68447-BC09-403F-8EF4-3F55A283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8E404-C26A-41E8-8A96-A6C2F644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09AC7-0252-4222-A1F2-1E9545EA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0B1B5-7194-4C3F-932A-252B44CE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9238C-5F10-4AD2-8E75-4D656A73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7A68B-0546-4301-BD47-963669C3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F9A8-1955-4D43-BE51-416B4445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08768-0736-4947-9CCA-97937F61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7563B-8AE2-4376-A35A-7874E1D5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7318A-7415-408F-989A-FAEF7B5A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1F551-BE39-4E29-B4D5-F06E7155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9142F-8EF5-469D-BEDB-F9DF2120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F852E-F467-4214-A60D-EE8F84DC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70F82-1CE8-406D-8838-DB738AD4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6EACB-A5EC-47F0-945A-255939B4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332AC-F300-48D0-ACED-CEF9F2BE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215B1-DD9B-4005-BA79-FB4E6C79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C29D-98B8-4829-80B2-2D31CADB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04F91-8E16-4C32-9E58-0C655469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2D91E-0732-4F00-B0D4-B9E778C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AFF0B-35EF-4971-A548-90196C02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58606-7BA0-4A6A-B00B-B9A6593F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DDA98-014B-486A-B447-F7FA129B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67A07-5599-44B8-9815-9A86A331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BF696-0A2C-4389-AED8-145E0E8E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719F5-17D6-4158-B801-6FBB9DC1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47FCE-7B86-4557-BD92-6A591769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C087E-FDC1-48A9-AEA5-B3AF1A8E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DF00-3968-4CA9-B737-E0BC7EFE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0F481-5D51-40ED-BC7A-8C283E97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F3F15-C4C3-444A-8261-6A5278C0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3FC84-F22C-4936-B73F-2B0887AF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4688E-B472-4664-8D17-21FC6E50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5CF80-054D-4669-A667-F79B4DA9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E269C-2851-4DA8-A798-6B65213F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F5087-C280-4CF2-A5F5-B6485051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AF13-102E-4199-8230-DCF265D6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E3E6-55E4-4116-A654-B577339D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A516-99F2-4A89-8BB6-6AD35715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77F0-1FFE-4537-A896-74E9FD4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FCB-8770-48AD-A6E5-4AC0D9DC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A1FD-ED25-430C-A044-6261059A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DC9E-9A58-46C3-9F4D-2D9B733E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DE91-048B-4DCE-B6E5-5D1A3023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E5AE-69F9-40B5-861D-6AED728B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780B-CBF2-4949-B59F-4730629E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A082-B607-471F-91C1-BDB3E8FE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D5E9-C11B-4CDF-902A-3F9167FF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498D-D133-4FB0-94C1-A05E5650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2845-0314-45C8-B4C4-5319FCE0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B44A4-45B0-4040-ACED-F93AC6BC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1F4-D317-40E9-AE8B-0F84DE46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652C-BE97-40B2-B968-39121D38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3A23-13D3-4615-95AA-8A7F501C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012C-11E9-4A85-83D3-B326C7A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173B-981A-4D2F-810F-DF8E3140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479E4-ED4A-408C-88FB-8BC6E94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0873-CBDA-4016-A432-66EEF88E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B511-5114-477D-95AE-A14A3E51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516BD-C622-40C8-810A-B7B592F1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85C0A-C885-4ECB-92FB-121B1EB3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00C4-C28D-4AD1-9AB5-BFCBE8EC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F32-D4D8-4194-B59D-5DBB4A2A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54D6-899D-421A-BE6B-8EC27AE7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90967-9CC0-4F99-81D4-AEF83206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4A41-F5C5-402C-82B8-755A3BAB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B3A84-7095-457C-98EF-B2C0FE5F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D37A-1B74-4AAF-B580-6C0859EA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DB67-3E9C-459E-ACB7-6186805F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D5859-D8E1-4D60-AA08-9DAC37FC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C390-C187-4DFA-B041-78ADE313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055E-DAD6-4575-BF76-0E0D13CF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DAFA3-7BA3-4E71-8233-F49142C4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CC7-4FBF-4DA1-8B05-DD9E617A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F3EA6-C2A9-42D3-9B5B-00511A8F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9D5F9-8B5A-4EEA-B503-B2C28BC0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FA756-87AF-4CED-B04A-D198B1E4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B4F93-6532-4146-A95E-8E44A802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E59AD-17DB-4932-BF9D-5D63CF03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82214-A43F-4DAF-9DA5-236B4ECF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614FA-8744-4712-8BB5-42BFDECF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F4DFB-1FE5-4957-BABA-39073F2E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D4B39-B72E-4925-BBF1-8F8AA524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EAFCA-5E20-4295-BFD1-E776607D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C0B-F10F-47FF-A81C-70B88DDD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4A4CD-4E40-47E2-A29F-FCFB6B32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40B9-1E23-4B51-B802-B98159C2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D2DB2-8B8F-4836-8B81-A35D1B04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7CCA5-FF06-487F-9838-04FC5815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41B33-74B1-4D85-88A4-4ADA9659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B6F42-55D0-4337-B9A0-C281D0B8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731A2-3A95-4D51-80B0-611BC533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C5191-41DB-4436-893E-8498BE1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AC56-E668-4F37-A299-5CCB7E5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B8A6-A87D-45A2-9317-BB116F45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64C-08DE-4346-9B14-789371F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0BB53-D460-4E85-98B7-7FBA0989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29219-CED7-470E-9D26-B1C1B741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ECE30-D97E-4C6E-BFAB-F28C063C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A947-C0DE-4111-A3B1-AE3063F8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41E41-62EF-4682-97F8-300DD0EA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953D5-A607-4E0A-A6E6-3A236C5C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066FC-E881-4F79-A5B8-4F0A6185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88C7E-E607-4ABC-93FD-074B5068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733B0-CA92-4F8C-99DA-D9DA4819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D5827-9A11-42C2-991B-C3C084A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873-0087-45CD-9A8C-2BADEA5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C45D-A84A-44BD-B2EB-3C093A5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162D7-D6B7-4379-86A0-75A45B5A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F863-AE6B-4B70-B013-E4854F5D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E733F-C45D-4D44-94B7-CFBCAFC1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C586B-1F32-467D-9E78-4772632A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5C665-8F05-4099-906C-37F2F47A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53959-A70E-43B4-90BF-BAFFEDA9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39796-4742-4385-843B-C910E709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24444-FAFD-4DD6-8E82-F40ED053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FE16C-C842-4EF8-8BC8-A86AB020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7AE-500B-42F7-88BE-52F2C0E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C9249-D130-49F5-A629-5C4C8E9E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B3D4B-6B47-4FDB-B773-E41B8FFC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3FC24-A36E-4EC1-AC9B-79E9332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4A3DF-0840-4416-88CC-00D1E1A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84E6E-ADE1-4486-BFAC-4C4BBDE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AD52-7E99-49AD-A3B7-C5F0B771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28B7F-C1F3-4FD5-B554-1DA5BB32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45679-6FF2-4E70-9B40-9302A11E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AA998-4C5C-43C6-811E-0BC53CE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38A62-0E19-4C05-9841-14C12CA7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F410-39F2-41F1-B3C4-9A561A12CEA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0DDA-0C42-4D6D-8183-5585EB40F4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8AC9-48EB-4DF4-B58A-D9D648BEFE5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8466-1A28-4925-8DBC-33A645DEAB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7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30F0-012D-4D47-9609-5C55E5A06F3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D2DC-CC6A-4D83-93F2-73417043344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3E55-E602-4638-91F2-119CF5D903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425A-5104-463F-AE29-9175AF44DA0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AEAB-D97B-4740-86A1-ED412179A9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9D23-1712-4AAB-B63B-121001044DE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88C3-2D78-4EDA-A773-E474F4CAE3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8A49-CCD6-4456-9A4C-558F523827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FAD2-84E6-403A-B3FC-556F678F662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160" y="907560"/>
            <a:ext cx="8928360" cy="283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d1d57"/>
                </a:solidFill>
                <a:latin typeface="Cambria"/>
              </a:rPr>
              <a:t>Об итогах исполнения бюджетов области </a:t>
            </a:r>
            <a:br>
              <a:rPr sz="3600"/>
            </a:br>
            <a:r>
              <a:rPr b="0" lang="ru-RU" sz="3600" spc="-1" strike="noStrike">
                <a:solidFill>
                  <a:srgbClr val="1d1d57"/>
                </a:solidFill>
                <a:latin typeface="Cambria"/>
              </a:rPr>
              <a:t>за 2016 год и задачах финансовых органов на 2017 год и на плановый период 2018 и 2019 годов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835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1d00"/>
                </a:solidFill>
                <a:latin typeface="Arial"/>
                <a:ea typeface="Arial"/>
              </a:rPr>
              <a:t>ПЕТУШКОВА Галина Васильевна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1d00"/>
                </a:solidFill>
                <a:latin typeface="Arial"/>
                <a:ea typeface="Arial"/>
              </a:rPr>
              <a:t>заместитель Губернатора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1d00"/>
                </a:solidFill>
                <a:latin typeface="Arial"/>
                <a:ea typeface="Arial"/>
              </a:rPr>
              <a:t>Брянской област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2" name="WordArt 14"/>
          <p:cNvSpPr txBox="1"/>
          <p:nvPr/>
        </p:nvSpPr>
        <p:spPr>
          <a:xfrm>
            <a:off x="2700360" y="333360"/>
            <a:ext cx="63025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22423"/>
                </a:solidFill>
                <a:latin typeface="Sylfaen"/>
              </a:rPr>
              <a:t>                                 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22423"/>
              </a:solidFill>
              <a:latin typeface="Sylfaen"/>
              <a:ea typeface="Sylfaen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Прямоугольник 6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701" name="Диаграмма 4" descr=""/>
          <p:cNvPicPr/>
          <p:nvPr/>
        </p:nvPicPr>
        <p:blipFill>
          <a:blip r:embed="rId2"/>
          <a:stretch/>
        </p:blipFill>
        <p:spPr>
          <a:xfrm>
            <a:off x="85680" y="1603440"/>
            <a:ext cx="8972640" cy="5022720"/>
          </a:xfrm>
          <a:prstGeom prst="rect">
            <a:avLst/>
          </a:prstGeom>
          <a:ln w="0">
            <a:noFill/>
          </a:ln>
        </p:spPr>
      </p:pic>
      <p:sp>
        <p:nvSpPr>
          <p:cNvPr id="702" name="Прямоугольник 3"/>
          <p:cNvSpPr/>
          <p:nvPr/>
        </p:nvSpPr>
        <p:spPr>
          <a:xfrm>
            <a:off x="214200" y="500040"/>
            <a:ext cx="878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ИНФОРМАЦИЯ О СРЕДНЕЙ ЗАРАБОТНОЙ ПЛАТЕ ОТДЕЛЬНЫХ КАТЕГОРИЙ РАБОТНИКОВ ПО СОСТОЯНИЮ НА 01.01.2017 (фонд оплаты труда по методике Росстат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Прямоугольник 6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партамент финансов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 txBox="1"/>
          <p:nvPr/>
        </p:nvSpPr>
        <p:spPr>
          <a:xfrm>
            <a:off x="514440" y="1484280"/>
            <a:ext cx="86248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6" name="TextBox 7"/>
          <p:cNvSpPr/>
          <p:nvPr/>
        </p:nvSpPr>
        <p:spPr>
          <a:xfrm>
            <a:off x="108000" y="549360"/>
            <a:ext cx="89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РАЗМЕР ЗАРАБОТНОЙ ПЛАТЫ РАБОТНИКОВ УЧРЕЖДЕНИЙ, РАСЧИТАННЫЙ ИСХОДЯ ИЗ УСТАНОВЛЕННЫХ СООТНОШ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(в части полномочий муниципальных образований),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Таблица 2" descr=""/>
          <p:cNvPicPr/>
          <p:nvPr/>
        </p:nvPicPr>
        <p:blipFill>
          <a:blip r:embed="rId2"/>
          <a:stretch/>
        </p:blipFill>
        <p:spPr>
          <a:xfrm>
            <a:off x="360360" y="1925640"/>
            <a:ext cx="8234280" cy="4567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Прямоугольник 6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партамент финансов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1"/>
          <p:cNvSpPr/>
          <p:nvPr/>
        </p:nvSpPr>
        <p:spPr>
          <a:xfrm>
            <a:off x="214200" y="709560"/>
            <a:ext cx="831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ОКАЗАНИЕ ПОДДЕРЖКИ МЕСТНЫМ БЮДЖЕТАМ В РЕАЛИЗАЦИИ УКАЗОВ ПРЕЗИДЕНТА В 2017 ГОДУ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2"/>
          <p:cNvSpPr/>
          <p:nvPr/>
        </p:nvSpPr>
        <p:spPr>
          <a:xfrm>
            <a:off x="363600" y="1844640"/>
            <a:ext cx="2865240" cy="2016000"/>
          </a:xfrm>
          <a:prstGeom prst="rect">
            <a:avLst/>
          </a:prstGeom>
          <a:solidFill>
            <a:srgbClr val="f5c040"/>
          </a:solidFill>
          <a:ln w="15840">
            <a:solidFill>
              <a:srgbClr val="7e6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ЕДАГОГИЧЕСКИЕ РАБОТНИКИ УЧРЕЖДЕНИЙ ДОШКОЛЬНОГО И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7"/>
          <p:cNvSpPr/>
          <p:nvPr/>
        </p:nvSpPr>
        <p:spPr>
          <a:xfrm>
            <a:off x="363600" y="4221000"/>
            <a:ext cx="2865240" cy="2016360"/>
          </a:xfrm>
          <a:prstGeom prst="rect">
            <a:avLst/>
          </a:prstGeom>
          <a:solidFill>
            <a:srgbClr val="f5c040"/>
          </a:solidFill>
          <a:ln w="15840">
            <a:solidFill>
              <a:srgbClr val="7e6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ЕДАГОГИЧЕСКИЕ РАБОТНИКИ УЧРЕЖДЕНИЙ ДОПОЛНИТЕЛЬНОГО ОБРАЗОВАНИЯ, РАБОТНИКИ УЧРЕЖДЕНИ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Стрелка вправо 3"/>
          <p:cNvSpPr/>
          <p:nvPr/>
        </p:nvSpPr>
        <p:spPr>
          <a:xfrm>
            <a:off x="3348000" y="2529000"/>
            <a:ext cx="792360" cy="647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5c040"/>
          </a:solidFill>
          <a:ln w="15840">
            <a:solidFill>
              <a:srgbClr val="7e6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Стрелка вправо 8"/>
          <p:cNvSpPr/>
          <p:nvPr/>
        </p:nvSpPr>
        <p:spPr>
          <a:xfrm>
            <a:off x="3411360" y="4905360"/>
            <a:ext cx="792360" cy="647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5c040"/>
          </a:solidFill>
          <a:ln w="15840">
            <a:solidFill>
              <a:srgbClr val="7e6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оугольник 9"/>
          <p:cNvSpPr/>
          <p:nvPr/>
        </p:nvSpPr>
        <p:spPr>
          <a:xfrm>
            <a:off x="4356000" y="1844640"/>
            <a:ext cx="3961080" cy="2016000"/>
          </a:xfrm>
          <a:prstGeom prst="rect">
            <a:avLst/>
          </a:prstGeom>
          <a:solidFill>
            <a:srgbClr val="a5d028"/>
          </a:solidFill>
          <a:ln w="15840">
            <a:solidFill>
              <a:srgbClr val="546b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 рамках предусмотренного объема субвенций, а также за счет снижения неэффективных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оугольник 10"/>
          <p:cNvSpPr/>
          <p:nvPr/>
        </p:nvSpPr>
        <p:spPr>
          <a:xfrm>
            <a:off x="4357800" y="4221000"/>
            <a:ext cx="3960720" cy="2016360"/>
          </a:xfrm>
          <a:prstGeom prst="rect">
            <a:avLst/>
          </a:prstGeom>
          <a:solidFill>
            <a:srgbClr val="a5d028"/>
          </a:solidFill>
          <a:ln w="15840">
            <a:solidFill>
              <a:srgbClr val="546b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50% потребности в рамках дотации на поддержку мер по обеспечению сбалансированности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Прямоугольник 6"/>
          <p:cNvSpPr/>
          <p:nvPr/>
        </p:nvSpPr>
        <p:spPr>
          <a:xfrm>
            <a:off x="-6480" y="468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партамент финансов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sp>
        <p:nvSpPr>
          <p:cNvPr id="719" name="Стрелка вправо 1"/>
          <p:cNvSpPr/>
          <p:nvPr/>
        </p:nvSpPr>
        <p:spPr>
          <a:xfrm>
            <a:off x="108000" y="2214720"/>
            <a:ext cx="534960" cy="484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Стрелка вправо 12"/>
          <p:cNvSpPr/>
          <p:nvPr/>
        </p:nvSpPr>
        <p:spPr>
          <a:xfrm>
            <a:off x="96840" y="5932440"/>
            <a:ext cx="534960" cy="484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Стрелка вправо 13"/>
          <p:cNvSpPr/>
          <p:nvPr/>
        </p:nvSpPr>
        <p:spPr>
          <a:xfrm>
            <a:off x="108000" y="4924440"/>
            <a:ext cx="534960" cy="484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def6e4"/>
          </a:solidFill>
          <a:ln w="9360">
            <a:solidFill>
              <a:srgbClr val="9de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с двумя скругленными противолежащими углами 3"/>
          <p:cNvSpPr/>
          <p:nvPr/>
        </p:nvSpPr>
        <p:spPr>
          <a:xfrm>
            <a:off x="642960" y="1484280"/>
            <a:ext cx="8393040" cy="194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беспечить повышение заработной платы до уровней, доведенных до каждого муниципального образования Департаментом образования и науки Брянской области (в части педагогических работников общеобразовательных, дошкольных учреждений и учреждений дополнительного образования) и Департаментом культуры Брянской области (в части работников культу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с двумя скругленными противолежащими углами 14"/>
          <p:cNvSpPr/>
          <p:nvPr/>
        </p:nvSpPr>
        <p:spPr>
          <a:xfrm>
            <a:off x="642960" y="4708440"/>
            <a:ext cx="8393040" cy="100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беспечить ежемесячный мониторинг и контроль за достижением показателей средней заработной платы в соответствии с контрольными знач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оугольник с двумя скругленными противолежащими углами 15"/>
          <p:cNvSpPr/>
          <p:nvPr/>
        </p:nvSpPr>
        <p:spPr>
          <a:xfrm>
            <a:off x="658800" y="5861160"/>
            <a:ext cx="833436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Не допускать образование кредиторской задолженности по выплате заработной платы с начис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1"/>
          <p:cNvSpPr/>
          <p:nvPr/>
        </p:nvSpPr>
        <p:spPr>
          <a:xfrm>
            <a:off x="755640" y="581040"/>
            <a:ext cx="763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ЗАДАЧИ ПРИ РЕАЛИЗАЦИИ «МАЙСКИХ» УКАЗОВ ПРЕЗИДЕНТА РОССИИ В 2017 ГОДУ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Стрелка вправо 18"/>
          <p:cNvSpPr/>
          <p:nvPr/>
        </p:nvSpPr>
        <p:spPr>
          <a:xfrm>
            <a:off x="84240" y="3789360"/>
            <a:ext cx="534960" cy="484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с двумя скругленными противолежащими углами 19"/>
          <p:cNvSpPr/>
          <p:nvPr/>
        </p:nvSpPr>
        <p:spPr>
          <a:xfrm>
            <a:off x="619200" y="3573360"/>
            <a:ext cx="8393040" cy="100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беспечить повышение оплаты труда в увязке с нагрузкой на персонал, а также с качеством оказываем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a59a6"/>
                </a:solidFill>
                <a:latin typeface="Cambria"/>
              </a:rPr>
              <a:t>Динамика численности работников органов местного самоуправления за 2013-2016 годы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Прямоугольник 6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731" name="Диаграмма 7" descr=""/>
          <p:cNvPicPr/>
          <p:nvPr/>
        </p:nvPicPr>
        <p:blipFill>
          <a:blip r:embed="rId2"/>
          <a:stretch/>
        </p:blipFill>
        <p:spPr>
          <a:xfrm>
            <a:off x="57240" y="1433520"/>
            <a:ext cx="8886600" cy="5286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4200" y="54900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59a6"/>
                </a:solidFill>
                <a:latin typeface="Cambria"/>
              </a:rPr>
              <a:t>ФИНАНСЫ УПРАВЛЕНЧЕСКИХ РАСХОДОВ, млн. рублей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3" name="Прямоугольник 6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735" name="Объект 1" descr=""/>
          <p:cNvPicPr/>
          <p:nvPr/>
        </p:nvPicPr>
        <p:blipFill>
          <a:blip r:embed="rId2"/>
          <a:stretch/>
        </p:blipFill>
        <p:spPr>
          <a:xfrm>
            <a:off x="163440" y="1217520"/>
            <a:ext cx="8852040" cy="5502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Прямоугольник 7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sp>
        <p:nvSpPr>
          <p:cNvPr id="738" name="Стрелка вправо 9"/>
          <p:cNvSpPr/>
          <p:nvPr/>
        </p:nvSpPr>
        <p:spPr>
          <a:xfrm>
            <a:off x="339840" y="500040"/>
            <a:ext cx="8678880" cy="6969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070c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Candara"/>
                <a:ea typeface="Aharoni"/>
              </a:rPr>
              <a:t>МУНИЦИПАЛЬНОЕ УПРАВЛ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Схема 3" descr=""/>
          <p:cNvPicPr/>
          <p:nvPr/>
        </p:nvPicPr>
        <p:blipFill>
          <a:blip r:embed="rId2"/>
          <a:stretch/>
        </p:blipFill>
        <p:spPr>
          <a:xfrm>
            <a:off x="334800" y="1243080"/>
            <a:ext cx="8693280" cy="535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59a6"/>
                </a:solidFill>
                <a:latin typeface="Cambria"/>
              </a:rPr>
              <a:t>Объем дорожных фондов, млн. рублей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1" name="Прямоугольник 6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743" name="Объект 1" descr=""/>
          <p:cNvPicPr/>
          <p:nvPr/>
        </p:nvPicPr>
        <p:blipFill>
          <a:blip r:embed="rId2"/>
          <a:stretch/>
        </p:blipFill>
        <p:spPr>
          <a:xfrm>
            <a:off x="284040" y="1433520"/>
            <a:ext cx="8659800" cy="4998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59a6"/>
                </a:solidFill>
                <a:latin typeface="Cambria"/>
              </a:rPr>
              <a:t>Расходы дорожного фонда, млн. рубле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5" name="Прямоугольник 6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747" name="Объект 6" descr=""/>
          <p:cNvPicPr/>
          <p:nvPr/>
        </p:nvPicPr>
        <p:blipFill>
          <a:blip r:embed="rId2"/>
          <a:stretch/>
        </p:blipFill>
        <p:spPr>
          <a:xfrm>
            <a:off x="303120" y="1433520"/>
            <a:ext cx="8796600" cy="4968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6" descr="Картинки по запросу городская среда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8000" y="620640"/>
            <a:ext cx="8928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a59a6"/>
                </a:solidFill>
                <a:latin typeface="Cambria"/>
              </a:rPr>
              <a:t>Приоритетный проект</a:t>
            </a:r>
            <a:br>
              <a:rPr sz="4200"/>
            </a:br>
            <a:r>
              <a:rPr b="1" lang="ru-RU" sz="4200" spc="-1" strike="noStrike">
                <a:solidFill>
                  <a:srgbClr val="2a59a6"/>
                </a:solidFill>
                <a:latin typeface="Cambria"/>
              </a:rPr>
              <a:t>«Формирование комфортной </a:t>
            </a:r>
            <a:br>
              <a:rPr sz="4200"/>
            </a:br>
            <a:r>
              <a:rPr b="1" lang="ru-RU" sz="4200" spc="-1" strike="noStrike">
                <a:solidFill>
                  <a:srgbClr val="2a59a6"/>
                </a:solidFill>
                <a:latin typeface="Cambria"/>
              </a:rPr>
              <a:t>городской среды»</a:t>
            </a:r>
            <a:br>
              <a:rPr sz="4200"/>
            </a:b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Федеральный бюджет – 252,8 млн. рублей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Областной бюджет – 31,2 млн. рублей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Местные бюджеты – 14,9 млн. рубле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Прямоугольник 6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2" descr="Герб повседневный 3"/>
          <p:cNvPicPr/>
          <p:nvPr/>
        </p:nvPicPr>
        <p:blipFill>
          <a:blip r:embed="rId2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lvl="1" marL="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8317080" y="324000"/>
            <a:ext cx="18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6"/>
          <p:cNvSpPr/>
          <p:nvPr/>
        </p:nvSpPr>
        <p:spPr>
          <a:xfrm>
            <a:off x="345960" y="5158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ика поступлений в бюджеты всех уровней на территории Брянской области за 2014 - 2016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WordArt 14"/>
          <p:cNvSpPr txBox="1"/>
          <p:nvPr/>
        </p:nvSpPr>
        <p:spPr>
          <a:xfrm>
            <a:off x="644400" y="6453360"/>
            <a:ext cx="49356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22423"/>
                </a:solidFill>
                <a:latin typeface="Sylfaen"/>
              </a:rPr>
              <a:t>                                 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22423"/>
              </a:solidFill>
              <a:latin typeface="Sylfaen"/>
              <a:ea typeface="Sylfaen"/>
            </a:endParaRPr>
          </a:p>
        </p:txBody>
      </p:sp>
      <p:sp>
        <p:nvSpPr>
          <p:cNvPr id="641" name="Прямоугольник 1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643" name="Диаграмма 15" descr=""/>
          <p:cNvPicPr/>
          <p:nvPr/>
        </p:nvPicPr>
        <p:blipFill>
          <a:blip r:embed="rId2"/>
          <a:stretch/>
        </p:blipFill>
        <p:spPr>
          <a:xfrm>
            <a:off x="231840" y="1450800"/>
            <a:ext cx="8680320" cy="500544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67"/>
          <p:cNvSpPr/>
          <p:nvPr/>
        </p:nvSpPr>
        <p:spPr>
          <a:xfrm>
            <a:off x="7020000" y="1268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лн. рубле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Прямоугольник 6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0" descr="http://www.bryanskobl.ru/img/news/2016/03606t0018857h.jpg"/>
          <p:cNvPicPr/>
          <p:nvPr/>
        </p:nvPicPr>
        <p:blipFill>
          <a:blip r:embed="rId2"/>
          <a:stretch/>
        </p:blipFill>
        <p:spPr>
          <a:xfrm>
            <a:off x="3240" y="500040"/>
            <a:ext cx="4424400" cy="31194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8" descr="http://www.bryanskobl.ru/img/news/2016/03606t0018837h.jpg"/>
          <p:cNvPicPr/>
          <p:nvPr/>
        </p:nvPicPr>
        <p:blipFill>
          <a:blip r:embed="rId3"/>
          <a:stretch/>
        </p:blipFill>
        <p:spPr>
          <a:xfrm>
            <a:off x="4427640" y="500040"/>
            <a:ext cx="4716360" cy="3119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20" descr="http://www.bryanskobl.ru/img/news/2016/03259t0016689h.jpg"/>
          <p:cNvPicPr/>
          <p:nvPr/>
        </p:nvPicPr>
        <p:blipFill>
          <a:blip r:embed="rId4"/>
          <a:stretch/>
        </p:blipFill>
        <p:spPr>
          <a:xfrm>
            <a:off x="0" y="3629160"/>
            <a:ext cx="4427640" cy="32288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2" descr="http://www.bryanskobl.ru/img/news/2016/03259t0016691h.jpg"/>
          <p:cNvPicPr/>
          <p:nvPr/>
        </p:nvPicPr>
        <p:blipFill>
          <a:blip r:embed="rId5"/>
          <a:stretch/>
        </p:blipFill>
        <p:spPr>
          <a:xfrm>
            <a:off x="4427640" y="3573360"/>
            <a:ext cx="4716360" cy="329400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-360" y="1064880"/>
            <a:ext cx="821844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Государственная программ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«Создание новых мест в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общеобразовательных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организациях»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2016 год: 420 млн. рублей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2017 год: 659 млн. рублей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осударственного долга Брянской области в 2016 году, млн. рублей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0" name="Прямоугольник 1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762" name="Диаграмма 13" descr=""/>
          <p:cNvPicPr/>
          <p:nvPr/>
        </p:nvPicPr>
        <p:blipFill>
          <a:blip r:embed="rId2"/>
          <a:stretch/>
        </p:blipFill>
        <p:spPr>
          <a:xfrm>
            <a:off x="360360" y="1414440"/>
            <a:ext cx="8607600" cy="5041800"/>
          </a:xfrm>
          <a:prstGeom prst="rect">
            <a:avLst/>
          </a:prstGeom>
          <a:ln w="0">
            <a:noFill/>
          </a:ln>
        </p:spPr>
      </p:pic>
      <p:sp>
        <p:nvSpPr>
          <p:cNvPr id="763" name="TextBox 1"/>
          <p:cNvSpPr/>
          <p:nvPr/>
        </p:nvSpPr>
        <p:spPr>
          <a:xfrm>
            <a:off x="4980960" y="1555920"/>
            <a:ext cx="17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2 988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бъём внутреннего долга муниципалитетов 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 2016 году, млн. рублей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Прямоугольник 6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767" name="Объект 14" descr=""/>
          <p:cNvPicPr/>
          <p:nvPr/>
        </p:nvPicPr>
        <p:blipFill>
          <a:blip r:embed="rId2"/>
          <a:stretch/>
        </p:blipFill>
        <p:spPr>
          <a:xfrm>
            <a:off x="469800" y="1341360"/>
            <a:ext cx="8229600" cy="5040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труктура муниципального внутреннего долга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города Брянска в 2015-2016 годах, млн. рублей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Прямоугольник 14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771" name="Объект 2" descr=""/>
          <p:cNvPicPr/>
          <p:nvPr/>
        </p:nvPicPr>
        <p:blipFill>
          <a:blip r:embed="rId2"/>
          <a:stretch/>
        </p:blipFill>
        <p:spPr>
          <a:xfrm>
            <a:off x="201600" y="1341360"/>
            <a:ext cx="5861160" cy="5183280"/>
          </a:xfrm>
          <a:prstGeom prst="rect">
            <a:avLst/>
          </a:prstGeom>
          <a:ln w="0">
            <a:noFill/>
          </a:ln>
        </p:spPr>
      </p:pic>
      <p:pic>
        <p:nvPicPr>
          <p:cNvPr id="772" name="Диаграмма 13" descr=""/>
          <p:cNvPicPr/>
          <p:nvPr/>
        </p:nvPicPr>
        <p:blipFill>
          <a:blip r:embed="rId3"/>
          <a:stretch/>
        </p:blipFill>
        <p:spPr>
          <a:xfrm>
            <a:off x="5937120" y="1627200"/>
            <a:ext cx="3097440" cy="4896000"/>
          </a:xfrm>
          <a:prstGeom prst="rect">
            <a:avLst/>
          </a:prstGeom>
          <a:ln w="0">
            <a:noFill/>
          </a:ln>
        </p:spPr>
      </p:pic>
      <p:sp>
        <p:nvSpPr>
          <p:cNvPr id="773" name="Прямоугольник 15"/>
          <p:cNvSpPr/>
          <p:nvPr/>
        </p:nvSpPr>
        <p:spPr>
          <a:xfrm>
            <a:off x="1403280" y="20890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32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Прямоугольник 16"/>
          <p:cNvSpPr/>
          <p:nvPr/>
        </p:nvSpPr>
        <p:spPr>
          <a:xfrm>
            <a:off x="2843280" y="18781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18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17"/>
          <p:cNvSpPr/>
          <p:nvPr/>
        </p:nvSpPr>
        <p:spPr>
          <a:xfrm>
            <a:off x="1916280" y="5229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оугольник 18"/>
          <p:cNvSpPr/>
          <p:nvPr/>
        </p:nvSpPr>
        <p:spPr>
          <a:xfrm>
            <a:off x="3564000" y="540720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Прямоугольник 7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sp>
        <p:nvSpPr>
          <p:cNvPr id="779" name="Стрелка вправо 9"/>
          <p:cNvSpPr/>
          <p:nvPr/>
        </p:nvSpPr>
        <p:spPr>
          <a:xfrm>
            <a:off x="339840" y="500040"/>
            <a:ext cx="8678880" cy="6969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070c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ndara"/>
                <a:ea typeface="Aharoni"/>
              </a:rPr>
              <a:t>МЕЖБЮДЖЕТНЫЕ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Схема 3" descr=""/>
          <p:cNvPicPr/>
          <p:nvPr/>
        </p:nvPicPr>
        <p:blipFill>
          <a:blip r:embed="rId2"/>
          <a:stretch/>
        </p:blipFill>
        <p:spPr>
          <a:xfrm>
            <a:off x="201600" y="1268280"/>
            <a:ext cx="8826480" cy="5327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Заголовок 10"/>
          <p:cNvSpPr/>
          <p:nvPr/>
        </p:nvSpPr>
        <p:spPr>
          <a:xfrm>
            <a:off x="285840" y="531720"/>
            <a:ext cx="85010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sp>
        <p:nvSpPr>
          <p:cNvPr id="784" name="TextBox 9"/>
          <p:cNvSpPr/>
          <p:nvPr/>
        </p:nvSpPr>
        <p:spPr>
          <a:xfrm>
            <a:off x="129240" y="620640"/>
            <a:ext cx="888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Segoe UI"/>
              </a:rPr>
              <a:t>ЗАДАЧИ ОРГАНОВ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  <a:ea typeface="Segoe U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Segoe UI"/>
              </a:rPr>
              <a:t>ГОСУДАРСТВЕННОЙ ВЛА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Segoe UI"/>
              </a:rPr>
              <a:t>И ОРГАНОВ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10"/>
          <p:cNvSpPr/>
          <p:nvPr/>
        </p:nvSpPr>
        <p:spPr>
          <a:xfrm>
            <a:off x="0" y="155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dara"/>
              </a:rPr>
              <a:t>Обеспечение роста налоговых и неналоговых поступлений в бюджеты всех уровней, отмена неэффективных налоговых льго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dara"/>
              </a:rPr>
              <a:t>Снижение объема государственного и муниципального долг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dara"/>
              </a:rPr>
              <a:t>Реализация мер, направленных на бюджетную консолидацию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dara"/>
              </a:rPr>
              <a:t>Безусловное исполнение «майских» указов Президента России в части повышения оплаты труда отдельных категорий работник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dara"/>
              </a:rPr>
              <a:t>Соблюдение условий получения межбюджетных трансфертов, установленных соглашения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485640" y="900000"/>
            <a:ext cx="817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7" name="Заголовок 10"/>
          <p:cNvSpPr/>
          <p:nvPr/>
        </p:nvSpPr>
        <p:spPr>
          <a:xfrm>
            <a:off x="285840" y="531720"/>
            <a:ext cx="85010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оугольник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lvl="1" marL="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8317080" y="324000"/>
            <a:ext cx="18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6"/>
          <p:cNvSpPr/>
          <p:nvPr/>
        </p:nvSpPr>
        <p:spPr>
          <a:xfrm>
            <a:off x="345960" y="5158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исполнения консолидированного бюджета области в 2016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7"/>
          <p:cNvSpPr/>
          <p:nvPr/>
        </p:nvSpPr>
        <p:spPr>
          <a:xfrm>
            <a:off x="7020000" y="1268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лн. рубле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WordArt 14"/>
          <p:cNvSpPr txBox="1"/>
          <p:nvPr/>
        </p:nvSpPr>
        <p:spPr>
          <a:xfrm>
            <a:off x="644400" y="6453360"/>
            <a:ext cx="49356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22423"/>
                </a:solidFill>
                <a:latin typeface="Sylfaen"/>
              </a:rPr>
              <a:t>                                 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22423"/>
              </a:solidFill>
              <a:latin typeface="Sylfaen"/>
              <a:ea typeface="Sylfae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44360" y="1660680"/>
          <a:ext cx="8855280" cy="4608360"/>
        </p:xfrm>
        <a:graphic>
          <a:graphicData uri="http://schemas.openxmlformats.org/drawingml/2006/table">
            <a:tbl>
              <a:tblPr/>
              <a:tblGrid>
                <a:gridCol w="2160720"/>
                <a:gridCol w="1295280"/>
                <a:gridCol w="1511280"/>
                <a:gridCol w="1368360"/>
                <a:gridCol w="1366920"/>
                <a:gridCol w="1152720"/>
              </a:tblGrid>
              <a:tr h="946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нено в 2015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 в 2016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рост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</a:tr>
              <a:tr h="511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 82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7 47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8 11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логовые и неналог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12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92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81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70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54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30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2 84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8 76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7 338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7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8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фицит (-) / профицит 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3 02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1 29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+ 78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3" name="Прямоугольник 1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Диаграмма 5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8607600" cy="5400720"/>
          </a:xfrm>
          <a:prstGeom prst="rect">
            <a:avLst/>
          </a:prstGeom>
          <a:ln w="0">
            <a:noFill/>
          </a:ln>
        </p:spPr>
      </p:pic>
      <p:sp>
        <p:nvSpPr>
          <p:cNvPr id="656" name="Овал 9"/>
          <p:cNvSpPr/>
          <p:nvPr/>
        </p:nvSpPr>
        <p:spPr>
          <a:xfrm>
            <a:off x="1258920" y="2997360"/>
            <a:ext cx="2017800" cy="194436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3"/>
          <p:cNvSpPr/>
          <p:nvPr/>
        </p:nvSpPr>
        <p:spPr>
          <a:xfrm>
            <a:off x="0" y="500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труктура расходов консолидированного  бюджета  Брянской области в 2016 году, млн. руб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8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Герб повседневный 3"/>
          <p:cNvPicPr/>
          <p:nvPr/>
        </p:nvPicPr>
        <p:blipFill>
          <a:blip r:embed="rId2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sp>
        <p:nvSpPr>
          <p:cNvPr id="660" name="TextBox 6"/>
          <p:cNvSpPr/>
          <p:nvPr/>
        </p:nvSpPr>
        <p:spPr>
          <a:xfrm>
            <a:off x="1341360" y="3524400"/>
            <a:ext cx="1871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57,3 млрд. руб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Прямоугольник 10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Диаграмма 3" descr=""/>
          <p:cNvPicPr/>
          <p:nvPr/>
        </p:nvPicPr>
        <p:blipFill>
          <a:blip r:embed="rId1"/>
          <a:stretch/>
        </p:blipFill>
        <p:spPr>
          <a:xfrm>
            <a:off x="139680" y="262080"/>
            <a:ext cx="4938840" cy="6480000"/>
          </a:xfrm>
          <a:prstGeom prst="rect">
            <a:avLst/>
          </a:prstGeom>
          <a:ln w="0">
            <a:noFill/>
          </a:ln>
        </p:spPr>
      </p:pic>
      <p:pic>
        <p:nvPicPr>
          <p:cNvPr id="663" name="Диаграмма 4" descr=""/>
          <p:cNvPicPr/>
          <p:nvPr/>
        </p:nvPicPr>
        <p:blipFill>
          <a:blip r:embed="rId2"/>
          <a:stretch/>
        </p:blipFill>
        <p:spPr>
          <a:xfrm>
            <a:off x="3133800" y="762120"/>
            <a:ext cx="6046560" cy="5979960"/>
          </a:xfrm>
          <a:prstGeom prst="rect">
            <a:avLst/>
          </a:prstGeom>
          <a:ln w="0">
            <a:noFill/>
          </a:ln>
        </p:spPr>
      </p:pic>
      <p:sp>
        <p:nvSpPr>
          <p:cNvPr id="664" name="TextBox 2"/>
          <p:cNvSpPr/>
          <p:nvPr/>
        </p:nvSpPr>
        <p:spPr>
          <a:xfrm>
            <a:off x="155520" y="662040"/>
            <a:ext cx="441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м межбюджетных трансфертов муниципальным образован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6 году, млрд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4211640" y="662040"/>
            <a:ext cx="47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финансовая поддержка муниципальных образований в 2016 году, млрд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Левая фигурная скобка 5"/>
          <p:cNvGrpSpPr/>
          <p:nvPr/>
        </p:nvGrpSpPr>
        <p:grpSpPr>
          <a:xfrm>
            <a:off x="1542960" y="4468680"/>
            <a:ext cx="6205680" cy="669960"/>
            <a:chOff x="1542960" y="4468680"/>
            <a:chExt cx="6205680" cy="669960"/>
          </a:xfrm>
        </p:grpSpPr>
        <p:pic>
          <p:nvPicPr>
            <p:cNvPr id="667" name="Левая фигурная скобка 5" descr=""/>
            <p:cNvPicPr/>
            <p:nvPr/>
          </p:nvPicPr>
          <p:blipFill>
            <a:blip r:embed="rId3"/>
            <a:stretch/>
          </p:blipFill>
          <p:spPr>
            <a:xfrm>
              <a:off x="1542960" y="4468680"/>
              <a:ext cx="62056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 rot="16200000">
              <a:off x="4566240" y="1571760"/>
              <a:ext cx="152280" cy="60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Box 6"/>
          <p:cNvSpPr/>
          <p:nvPr/>
        </p:nvSpPr>
        <p:spPr>
          <a:xfrm>
            <a:off x="3132000" y="493092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,9 млрд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0"/>
          <p:cNvSpPr/>
          <p:nvPr/>
        </p:nvSpPr>
        <p:spPr>
          <a:xfrm>
            <a:off x="880920" y="3860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13,6 млрд. 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1"/>
          <p:cNvSpPr/>
          <p:nvPr/>
        </p:nvSpPr>
        <p:spPr>
          <a:xfrm>
            <a:off x="5724360" y="39844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2,3 млрд. 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2" descr="Герб повседневный 3"/>
          <p:cNvPicPr/>
          <p:nvPr/>
        </p:nvPicPr>
        <p:blipFill>
          <a:blip r:embed="rId4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sp>
        <p:nvSpPr>
          <p:cNvPr id="673" name="TextBox 1"/>
          <p:cNvSpPr/>
          <p:nvPr/>
        </p:nvSpPr>
        <p:spPr>
          <a:xfrm>
            <a:off x="4719600" y="5589720"/>
            <a:ext cx="44244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юджетные кред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части дотации доп. нормат. от НДФ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числения по дифференц. нормат. по акцизам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мобильный и прямогонный бензин, диз. топливо, мотор.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2"/>
          <p:cNvSpPr/>
          <p:nvPr/>
        </p:nvSpPr>
        <p:spPr>
          <a:xfrm>
            <a:off x="4572000" y="5680080"/>
            <a:ext cx="147600" cy="71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Прямоугольник 3"/>
          <p:cNvSpPr/>
          <p:nvPr/>
        </p:nvSpPr>
        <p:spPr>
          <a:xfrm>
            <a:off x="171360" y="83664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ровень  зависимости  местных  бюдже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финансовой помощи,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8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pic>
        <p:nvPicPr>
          <p:cNvPr id="678" name="Диаграмма 5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7845480" cy="424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Прямоугольник 3"/>
          <p:cNvSpPr/>
          <p:nvPr/>
        </p:nvSpPr>
        <p:spPr>
          <a:xfrm>
            <a:off x="184320" y="530280"/>
            <a:ext cx="87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ичество учреждений социальной сфе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численность работающих в 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оугольник 8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grpSp>
        <p:nvGrpSpPr>
          <p:cNvPr id="682" name="Подзаголовок 2"/>
          <p:cNvGrpSpPr/>
          <p:nvPr/>
        </p:nvGrpSpPr>
        <p:grpSpPr>
          <a:xfrm>
            <a:off x="96840" y="1438200"/>
            <a:ext cx="8937720" cy="5181840"/>
            <a:chOff x="96840" y="1438200"/>
            <a:chExt cx="8937720" cy="5181840"/>
          </a:xfrm>
        </p:grpSpPr>
        <p:pic>
          <p:nvPicPr>
            <p:cNvPr id="683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96840" y="1438200"/>
              <a:ext cx="89377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214200" y="1484280"/>
              <a:ext cx="874404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451"/>
                </a:spcBef>
                <a:buClr>
                  <a:srgbClr val="31b6fd"/>
                </a:buClr>
                <a:buFont typeface="Symbol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451"/>
                </a:spcBef>
                <a:buClr>
                  <a:srgbClr val="31b6fd"/>
                </a:buClr>
                <a:buFont typeface="Symbol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ndara"/>
                </a:rPr>
                <a:t>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451"/>
                </a:spcBef>
                <a:buClr>
                  <a:srgbClr val="31b6fd"/>
                </a:buClr>
                <a:buFont typeface="Symbol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5" name=""/>
          <p:cNvGraphicFramePr/>
          <p:nvPr/>
        </p:nvGraphicFramePr>
        <p:xfrm>
          <a:off x="324000" y="1628640"/>
          <a:ext cx="3960720" cy="4826160"/>
        </p:xfrm>
        <a:graphic>
          <a:graphicData uri="http://schemas.openxmlformats.org/drawingml/2006/table">
            <a:tbl>
              <a:tblPr/>
              <a:tblGrid>
                <a:gridCol w="2136600"/>
                <a:gridCol w="906480"/>
                <a:gridCol w="91764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Наименование учрежд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Всего кол-во учреж-дений, 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в т.ч. кол-во  муни-ципа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ndara"/>
                        </a:rPr>
                        <a:t>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7030a0"/>
                          </a:solidFill>
                          <a:latin typeface="Candara"/>
                        </a:rPr>
                        <a:t>1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7030a0"/>
                          </a:solidFill>
                          <a:latin typeface="Candara"/>
                        </a:rPr>
                        <a:t>1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Candara"/>
                        </a:rPr>
                        <a:t>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Candara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Candara"/>
                        </a:rPr>
                        <a:t>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ndara"/>
                        </a:rPr>
                        <a:t>Здравоохра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7030a0"/>
                          </a:solidFill>
                          <a:latin typeface="Candar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7030a0"/>
                          </a:solidFill>
                          <a:latin typeface="Candar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Candara"/>
                        </a:rPr>
                        <a:t>ФК и 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Candara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Candar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ndara"/>
                        </a:rPr>
                        <a:t>Соцзащ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7030a0"/>
                          </a:solidFill>
                          <a:latin typeface="Candara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7030a0"/>
                          </a:solidFill>
                          <a:latin typeface="Candar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andara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ndara"/>
                        </a:rPr>
                        <a:t>14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ndara"/>
                        </a:rPr>
                        <a:t>1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686" name="Прямоугольник 11"/>
          <p:cNvSpPr/>
          <p:nvPr/>
        </p:nvSpPr>
        <p:spPr>
          <a:xfrm>
            <a:off x="4716360" y="1700280"/>
            <a:ext cx="3959280" cy="4537080"/>
          </a:xfrm>
          <a:prstGeom prst="rect">
            <a:avLst/>
          </a:prstGeom>
          <a:solidFill>
            <a:srgbClr val="dae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ndara"/>
              </a:rPr>
              <a:t>Всего штатных единиц - 91,5 тысяч физических лиц  -  73,2 тысяч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ndara"/>
              </a:rPr>
              <a:t>в среднем по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ndara"/>
              </a:rPr>
              <a:t>нагрузка = 1,2 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ndara"/>
              </a:rPr>
              <a:t>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Candara"/>
              </a:rPr>
              <a:t>на 1  физическое лицо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работников муниципальных    учреждений соцсферы - 43,7 тысячи штатных еди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физических лиц - 36,4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andara"/>
              </a:rPr>
              <a:t>нагрузка = 1,2 ставки на 1  физическое лицо   </a:t>
            </a:r>
            <a:r>
              <a:rPr b="0" lang="ru-RU" sz="2000" spc="-1" strike="noStrike" u="sng">
                <a:solidFill>
                  <a:srgbClr val="898989"/>
                </a:solidFill>
                <a:uFillTx/>
                <a:latin typeface="Candara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Прямоугольник 3"/>
          <p:cNvSpPr/>
          <p:nvPr/>
        </p:nvSpPr>
        <p:spPr>
          <a:xfrm>
            <a:off x="204840" y="528480"/>
            <a:ext cx="878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НАМИКА ИЗМЕНЕНИЙ ПОКАЗАТЕЛЕЙ ОБЩЕОБРАЗОВАТЕЛЬНЫХ ОРГАНИЗАЦ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А ПЕРИОД С 2000 ПО 2016 Г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8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grpSp>
        <p:nvGrpSpPr>
          <p:cNvPr id="690" name="Подзаголовок 2"/>
          <p:cNvGrpSpPr/>
          <p:nvPr/>
        </p:nvGrpSpPr>
        <p:grpSpPr>
          <a:xfrm>
            <a:off x="96840" y="1616040"/>
            <a:ext cx="8798040" cy="5004000"/>
            <a:chOff x="96840" y="1616040"/>
            <a:chExt cx="8798040" cy="5004000"/>
          </a:xfrm>
        </p:grpSpPr>
        <p:pic>
          <p:nvPicPr>
            <p:cNvPr id="691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96840" y="1616040"/>
              <a:ext cx="8798040" cy="50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214200" y="1665360"/>
              <a:ext cx="8605800" cy="48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451"/>
                </a:spcBef>
                <a:buClr>
                  <a:srgbClr val="31b6fd"/>
                </a:buClr>
                <a:buFont typeface="Symbol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451"/>
                </a:spcBef>
                <a:buClr>
                  <a:srgbClr val="31b6fd"/>
                </a:buClr>
                <a:buFont typeface="Symbol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ndara"/>
                </a:rPr>
                <a:t>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451"/>
                </a:spcBef>
                <a:buClr>
                  <a:srgbClr val="31b6fd"/>
                </a:buClr>
                <a:buFont typeface="Symbol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3" name=""/>
          <p:cNvGraphicFramePr/>
          <p:nvPr/>
        </p:nvGraphicFramePr>
        <p:xfrm>
          <a:off x="324000" y="1916280"/>
          <a:ext cx="8351640" cy="4275000"/>
        </p:xfrm>
        <a:graphic>
          <a:graphicData uri="http://schemas.openxmlformats.org/drawingml/2006/table">
            <a:tbl>
              <a:tblPr/>
              <a:tblGrid>
                <a:gridCol w="2565360"/>
                <a:gridCol w="1611360"/>
                <a:gridCol w="2087280"/>
                <a:gridCol w="20876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0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откло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оличество шк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2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исленность учащихся,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93 4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9 9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73 4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оличество педработников,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1 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 6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8 7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исленность учащихся на 1 педработника,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,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,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Прямоугольник 3"/>
          <p:cNvSpPr/>
          <p:nvPr/>
        </p:nvSpPr>
        <p:spPr>
          <a:xfrm>
            <a:off x="204840" y="727200"/>
            <a:ext cx="878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РЕДНЯЯ СТОИМОСТЬ ОБУЧЕНИЯ  1 УЧЕНИКА В 2016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8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254061">
              <a:alpha val="80000"/>
            </a:srgbClr>
          </a:solidFill>
          <a:ln w="0">
            <a:solidFill>
              <a:srgbClr val="25406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епартамент финансов Бря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2" descr="Герб повседневный 3"/>
          <p:cNvPicPr/>
          <p:nvPr/>
        </p:nvPicPr>
        <p:blipFill>
          <a:blip r:embed="rId1"/>
          <a:stretch/>
        </p:blipFill>
        <p:spPr>
          <a:xfrm>
            <a:off x="214200" y="71280"/>
            <a:ext cx="300240" cy="35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7" name=""/>
          <p:cNvGraphicFramePr/>
          <p:nvPr/>
        </p:nvGraphicFramePr>
        <p:xfrm>
          <a:off x="611280" y="1916280"/>
          <a:ext cx="8229600" cy="4646520"/>
        </p:xfrm>
        <a:graphic>
          <a:graphicData uri="http://schemas.openxmlformats.org/drawingml/2006/table">
            <a:tbl>
              <a:tblPr/>
              <a:tblGrid>
                <a:gridCol w="2171520"/>
                <a:gridCol w="6058080"/>
              </a:tblGrid>
              <a:tr h="113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60 тыс.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убровский, Жуковский, Клетнянский, Трубчевский и Унечский рай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 до 70 тыс. рубле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совский, Брянский, Выгоничский, Гордеевский, Климовский, Почепский и Суземский рай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0 до 90 тыс.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ынковский, Клинцовский, Комаричский, Погарский, Рогнединский, Севский и Суражский рай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90 до 100 тыс.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ятинский, Красногорский, Мглинский,  Новозыбковский и Стародубский рай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698" name="Прямоугольник 9"/>
          <p:cNvSpPr/>
          <p:nvPr/>
        </p:nvSpPr>
        <p:spPr>
          <a:xfrm>
            <a:off x="584280" y="1341360"/>
            <a:ext cx="83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за счет всех источников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49,8 тыс.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6:55:20Z</dcterms:created>
  <dc:creator>Ignatov</dc:creator>
  <dc:description/>
  <dc:language>en-US</dc:language>
  <cp:lastModifiedBy>Boss</cp:lastModifiedBy>
  <cp:lastPrinted>2017-04-07T12:22:12Z</cp:lastPrinted>
  <dcterms:modified xsi:type="dcterms:W3CDTF">2017-04-10T08:42:13Z</dcterms:modified>
  <cp:revision>347</cp:revision>
  <dc:subject/>
  <dc:title>Слайд 1</dc:title>
</cp:coreProperties>
</file>